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F51-7BBE-4AF9-AC4C-FEB69F22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96C-8062-4E9B-AEE2-546044D3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37F-B29B-43A1-966B-39497ED9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A5F-C583-49DE-B8C2-D71B0B67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CAAE-1C92-4FD3-A33D-C2D1718D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6A88-15D6-4521-932D-8B77B24B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515B-E955-46C3-ADCE-21A90F54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23C9-0870-406E-A277-82AFD644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D4BF-D977-449B-A2D1-F8CB3013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917B-4BD4-4E55-9EDF-D7A1BA6C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58ED-2854-4226-83EF-3F917FB3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906-2AF2-46B5-9557-026018AC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C467-8C01-4B67-AD80-5D652EBE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8E93-C79C-4FE8-9544-B59D8FB9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DD5C-1BC2-4CF1-9FD0-179B3E5E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287D-BDC7-4325-BE26-2E12FE1C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6695-C2C5-4BC9-9072-5CF8AFC6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4F2-1639-4A43-9381-AA19D6EF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3BF-F2D3-4171-B761-BA36FFFF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1E7-A0A1-4C0E-AC23-7428A6FF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B20-52C3-4FD7-A3B2-644BD381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3F1-FB0D-4DB6-BE2A-B0F9FD70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0D9-8D84-45C5-B08C-AD453621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DA3-DDC4-426B-BD16-61BB5D29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C167-9E19-4312-97D9-442F5ECEF8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B827-E9AB-41C0-97EF-3C539FB72C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lloy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e Osbor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n Allo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lloy is any solid solution consisting of atoms consisting of different materia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Aluminum alloy being used in a pipe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Aluminum Alloy Pipe"/>
          <p:cNvPicPr/>
          <p:nvPr/>
        </p:nvPicPr>
        <p:blipFill>
          <a:blip r:embed="rId1"/>
          <a:srcRect l="0" t="12504" r="0" b="1250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Zinc being utilitised an alloy that forms a screw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2" descr="http://www.germes-online.com/direct/dbimage/50302133/Nylon_Zinc_Alloy_Anchor.jpg"/>
          <p:cNvPicPr/>
          <p:nvPr/>
        </p:nvPicPr>
        <p:blipFill>
          <a:blip r:embed="rId1"/>
          <a:srcRect l="0" t="12504" r="0" b="1250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 include Steel, ( Iron+Carb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ss (Copper+Zin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nze ( copper+phosphorous+ tin+Zin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we use alloy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use allots in jewelry to manufacture 14 carat gold as well as white go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uses include Mercury amalgams for dental fill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well as pewter in the production of figur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This Relates to What We have Learn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relevant to he material on per cent compositio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well as physical  and chemical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so in the study of mixtures alloys are essent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percent composition is stee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were alloys first discover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ourc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Michael Hogan, (1969)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ensity of States of an Insulating Ferromagnetic Allo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hys. Rev. 188, 870 - 874, [Issue 2 – December 196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^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X. Y. Zhang and H. Suhl (1985) Phys. Rev. A 32, 2530 - 2533 (1985) [Issue 4 – October 198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05:05:31Z</dcterms:created>
  <dc:creator>Cole</dc:creator>
  <dc:description/>
  <dc:language>en-US</dc:language>
  <cp:lastModifiedBy>Student</cp:lastModifiedBy>
  <dcterms:modified xsi:type="dcterms:W3CDTF">2009-02-27T13:24:15Z</dcterms:modified>
  <cp:revision>4</cp:revision>
  <dc:subject/>
  <dc:title>Alloys</dc:title>
</cp:coreProperties>
</file>